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532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47B-9169-496A-951B-9D4F270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3E5-3488-426E-96B7-BB36A0A4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809-23B2-45C7-9F50-2B100A4F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FA9-C011-4D3E-8238-875C53D4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971-A7AF-4445-A241-0538B7C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62F-BD2B-4BC4-ADE0-6AE23A22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56B-39F9-467F-9630-90E68DF8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C1B-5DD1-4EE4-9553-84314ACD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8BE-053E-4E18-848E-7A32B5E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285-CAC4-408E-A192-534B13F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EEE-BE79-4BB1-93EB-C6B7A12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3D9-17A1-4B0F-A856-8873D23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0C9-F3F6-4C27-AFA6-EB4C9229E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019920"/>
            <a:ext cx="8839440" cy="685800"/>
          </a:xfrm>
          <a:prstGeom prst="rect">
            <a:avLst/>
          </a:prstGeom>
          <a:solidFill>
            <a:srgbClr val="84c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25909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alatino"/>
              </a:rPr>
              <a:t>MPC-O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3" name="btn_LIP6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ASIM-lgd_gb" descr=""/>
          <p:cNvPicPr/>
          <p:nvPr/>
        </p:nvPicPr>
        <p:blipFill>
          <a:blip r:embed="rId2"/>
          <a:stretch/>
        </p:blipFill>
        <p:spPr>
          <a:xfrm>
            <a:off x="3962520" y="6095880"/>
            <a:ext cx="104760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ASIM-sml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4760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btn_CNRS" descr=""/>
          <p:cNvPicPr/>
          <p:nvPr/>
        </p:nvPicPr>
        <p:blipFill>
          <a:blip r:embed="rId4"/>
          <a:stretch/>
        </p:blipFill>
        <p:spPr>
          <a:xfrm>
            <a:off x="7315200" y="609588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btn_UPMC" descr=""/>
          <p:cNvPicPr/>
          <p:nvPr/>
        </p:nvPicPr>
        <p:blipFill>
          <a:blip r:embed="rId5"/>
          <a:stretch/>
        </p:blipFill>
        <p:spPr>
          <a:xfrm>
            <a:off x="7772400" y="60958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152280"/>
            <a:ext cx="609624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alatino"/>
              </a:rPr>
              <a:t>Mesures de déb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990720"/>
          <a:ext cx="5410440" cy="312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990720"/>
                    <a:ext cx="54104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867280" y="1066680"/>
          <a:ext cx="3048120" cy="239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066680"/>
                    <a:ext cx="3048120" cy="23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867280" y="3505320"/>
          <a:ext cx="3048120" cy="245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67280" y="3505320"/>
                    <a:ext cx="304812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04920" y="3886200"/>
            <a:ext cx="556236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C Pentium II 35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ipset 440B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bit minimum (1 octet/page) : 3,9 M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ébit maximum (65535 octets/page) : 494 Mbit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mi-bande (247Mbit/s) : 66 oct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143000"/>
            <a:ext cx="79246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6019920"/>
            <a:ext cx="8839440" cy="685800"/>
          </a:xfrm>
          <a:prstGeom prst="rect">
            <a:avLst/>
          </a:prstGeom>
          <a:solidFill>
            <a:srgbClr val="84c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52280"/>
            <a:ext cx="259092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alatino"/>
              </a:rPr>
              <a:t>MPC-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tn_LIP6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ASIM-lgd_gb" descr=""/>
          <p:cNvPicPr/>
          <p:nvPr/>
        </p:nvPicPr>
        <p:blipFill>
          <a:blip r:embed="rId2"/>
          <a:stretch/>
        </p:blipFill>
        <p:spPr>
          <a:xfrm>
            <a:off x="3962520" y="6095880"/>
            <a:ext cx="104760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ASIM-sml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4760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btn_CNRS" descr=""/>
          <p:cNvPicPr/>
          <p:nvPr/>
        </p:nvPicPr>
        <p:blipFill>
          <a:blip r:embed="rId4"/>
          <a:stretch/>
        </p:blipFill>
        <p:spPr>
          <a:xfrm>
            <a:off x="7315200" y="6095880"/>
            <a:ext cx="39996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btn_UPMC" descr=""/>
          <p:cNvPicPr/>
          <p:nvPr/>
        </p:nvPicPr>
        <p:blipFill>
          <a:blip r:embed="rId5"/>
          <a:stretch/>
        </p:blipFill>
        <p:spPr>
          <a:xfrm>
            <a:off x="7772400" y="6095880"/>
            <a:ext cx="39996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152280"/>
            <a:ext cx="609624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Palatino"/>
              </a:rPr>
              <a:t>Mesures de la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79246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esures effectuées sur deux PC Pentium II 350MHz, chipset 440BX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arte FastHSL avec oscillateur à 66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8880" y="1143000"/>
            <a:ext cx="16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tér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7600" y="1246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560" y="12952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44560" y="11430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g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pol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62680" y="1219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29680" y="1219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54480" y="1143000"/>
            <a:ext cx="22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 ’un transf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600" y="2749680"/>
            <a:ext cx="792468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67120" y="2744640"/>
            <a:ext cx="10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gt;1,7µ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2,1µ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16680" y="28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7200" y="289728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,9µ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20840" y="2744640"/>
            <a:ext cx="10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gt;10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400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1760" y="2825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29680" y="281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30120" y="28195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4,0µ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2057400"/>
            <a:ext cx="533520" cy="609480"/>
          </a:xfrm>
          <a:prstGeom prst="upDownArrow">
            <a:avLst>
              <a:gd name="adj1" fmla="val 50000"/>
              <a:gd name="adj2" fmla="val 2274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038480"/>
            <a:ext cx="7924680" cy="609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rcoût de l’appel système : 1,1µ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8:41:32Z</dcterms:created>
  <dc:creator>Lara</dc:creator>
  <dc:description/>
  <dc:language>en-US</dc:language>
  <cp:lastModifiedBy>Lara</cp:lastModifiedBy>
  <cp:lastPrinted>1999-09-19T21:33:19Z</cp:lastPrinted>
  <dcterms:modified xsi:type="dcterms:W3CDTF">1999-09-19T21:54:18Z</dcterms:modified>
  <cp:revision>16</cp:revision>
  <dc:subject/>
  <dc:title>Aucun titre de diapositive</dc:title>
</cp:coreProperties>
</file>